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DF5C-CF6A-4770-B530-4EC469C3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10C0-71F4-4B84-BF55-1A8F7AC8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6B43-84E0-4D57-95F2-8317DA3E5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F287-957C-47BF-9F72-A6F0CD70A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B377-2D06-45EA-821A-6B6460B5F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BFA5-9E87-420F-BCCF-2C6D3A73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BE52-A972-47C3-929D-50ECF3D3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4787-44D3-43C4-A26B-E46636DC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C5AA-D196-4126-9455-C0061F06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F427-9E12-4E3C-99E8-9AD0116B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58B3-CB16-4532-AA22-C84CFE14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E0BD-037E-40DC-B18D-538006BF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E4A3-8915-45F6-9D38-1D8BB302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CC46-2349-4655-9581-498A0BFF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F069-E3A0-4D3F-9D55-A9A5830B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40EA-CF75-45AB-B918-B58D7975D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83FC-3B6C-495C-851D-D839D8A1D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B3EEF-3D3E-4166-B035-D608E975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C9B72-D51E-42CB-AADB-F36CB94E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A9686-B31B-41FB-B123-907D18BB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7C704-44A8-41EE-9311-005FAFF7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7F08A-CA5D-4A93-9585-409599C0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014A-8A7A-4571-846D-D36CF6F2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AD139-915C-4202-B370-ABC3DEC4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72B6B-CD20-4140-BAFD-6F7AA825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8218E-BA75-42EC-BB5C-001EA6B0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A99F4-3B8D-4C8D-8E15-905BBE9A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740AE-F05C-419D-B733-78556659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364C5-C703-4898-8F44-A09FE23C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61D06-199D-4418-A374-81D5252A0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1F3DF-A908-4D3E-AB0E-37302690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FAE63-E810-431C-88EC-F1B3FF1D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5F421-C656-4950-9DFC-29A1502B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93F3-49B5-4AE9-AF32-1CEA2876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431ED-07A3-4129-A05C-BF571A8D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0050F-9B82-4DC0-A839-6BAB971F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9C39E-6044-4479-BEB8-2C0D7DD8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7A099-68F1-4608-AF4A-1BCB0869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E7205-A4D0-41DF-AA67-0B1D1E9B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90BB7-A513-4E46-AD73-C8010D06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60368-3842-44F8-AA5D-E8F38B46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D55AE-9B0D-4FEB-A487-A09BA0C5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371D2-5867-474C-B68E-96D63386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B691E-4779-46BF-B067-82B8FC11B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4BF2-DF1C-4331-8D36-E3C4A71E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28AE3-042A-4925-A0BC-02994B02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BD1F4-1113-413D-BFC8-AA3DFB28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89517-0F85-41DA-80F2-BDCD51AE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C9A96-29AF-4B87-BD32-2CD7AE08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D7D1B-CDF1-4A0E-8DC4-DEEB2873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837CA-0295-4285-94BA-7CA8BE7A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EBB01-BE51-47E9-B3E1-09B77638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8846A-3EBA-4A07-81A1-C66AC93A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44F90-B08B-4E59-87EC-1D052647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AB7F2-9F55-46AC-AB77-E489BB3B3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8D49-614D-4C78-A8A6-82413FA2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B37FE-2DF2-466C-8715-9F97CE6A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48BD-F4A5-4DD2-AAB4-2F544865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A89A-3F44-4A72-8395-91DB1ABB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84EC-229C-48DB-B74B-9B4EC958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1F65-9A17-4146-9939-D98457A5767E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DF33-7970-4085-98EA-8EAA18E61D3A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AE25-34D7-4989-A85D-699EAD1A28EB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E68D-4C4D-46F0-AC95-358DA39E1CDB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D8FB-EFC6-4AD1-9E32-8F1C7CAF4B3F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1" descr=""/>
          <p:cNvPicPr/>
          <p:nvPr/>
        </p:nvPicPr>
        <p:blipFill>
          <a:blip r:embed="rId1"/>
          <a:stretch/>
        </p:blipFill>
        <p:spPr>
          <a:xfrm>
            <a:off x="2819520" y="2895480"/>
            <a:ext cx="3200400" cy="30751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5826240" cy="16462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ПОРТРЕТ ВЫПУСКНИКА ДЕТСКОГО САДА В СООТВЕТСТВИИ С ФГОС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447560" y="52844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434342"/>
              </a:solidFill>
              <a:latin typeface="Constantia"/>
              <a:ea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990720" y="45684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63204"/>
                </a:solidFill>
                <a:latin typeface="Constantia"/>
              </a:rPr>
              <a:t>                  </a:t>
            </a:r>
            <a:r>
              <a:rPr b="1" lang="ru-RU" sz="2800" spc="-1" strike="noStrike">
                <a:solidFill>
                  <a:srgbClr val="863204"/>
                </a:solidFill>
                <a:latin typeface="Times New Roman"/>
                <a:ea typeface="Times New Roman"/>
              </a:rPr>
              <a:t>МОДЕЛЬ ВЫПУСКНИКА - предполагаемый результат совместной деятельности детского сада и семьи, характеризующий их представления о наиболее важных качествах личности ребенка, которыми должен обладать выпускник дошкольного образовательного  учреждения.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19" name="Picture 4" descr="MCj03466450000[1]"/>
          <p:cNvPicPr/>
          <p:nvPr/>
        </p:nvPicPr>
        <p:blipFill>
          <a:blip r:embed="rId1"/>
          <a:stretch/>
        </p:blipFill>
        <p:spPr>
          <a:xfrm>
            <a:off x="6019920" y="3541680"/>
            <a:ext cx="24526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14040" y="380520"/>
            <a:ext cx="7931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3204"/>
                </a:solidFill>
                <a:latin typeface="Constantia"/>
              </a:rPr>
              <a:t>МОДЕЛЬ ВЫПУСКНИКА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3204"/>
                </a:solidFill>
                <a:latin typeface="Times New Roman"/>
                <a:ea typeface="Times New Roman"/>
              </a:rPr>
              <a:t>имеет большое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3204"/>
                </a:solidFill>
                <a:latin typeface="Times New Roman"/>
                <a:ea typeface="Times New Roman"/>
              </a:rPr>
              <a:t>значение: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3204"/>
                </a:solidFill>
                <a:latin typeface="Times New Roman"/>
                <a:ea typeface="Times New Roman"/>
              </a:rPr>
              <a:t>1. Она выполняет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грирующую роль </a:t>
            </a:r>
            <a:r>
              <a:rPr b="1" lang="ru-RU" sz="2400" spc="-1" strike="noStrike">
                <a:solidFill>
                  <a:srgbClr val="863204"/>
                </a:solidFill>
                <a:latin typeface="Times New Roman"/>
                <a:ea typeface="Times New Roman"/>
              </a:rPr>
              <a:t>по отношению к другим составляющим образам дошкольного учреждения;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3204"/>
                </a:solidFill>
                <a:latin typeface="Times New Roman"/>
                <a:ea typeface="Times New Roman"/>
              </a:rPr>
              <a:t>2. Явля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ой для разработки целевых ориентиров</a:t>
            </a:r>
            <a:r>
              <a:rPr b="1" lang="ru-RU" sz="2400" spc="-1" strike="noStrike">
                <a:solidFill>
                  <a:srgbClr val="863204"/>
                </a:solidFill>
                <a:latin typeface="Times New Roman"/>
                <a:ea typeface="Times New Roman"/>
              </a:rPr>
              <a:t> воспитательно-образовательного процесса, позволяющих максимально учитывать особенности окружающей среды, специфику учреждения, своеобразие педагогического коллектива;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3204"/>
                </a:solidFill>
                <a:latin typeface="Times New Roman"/>
                <a:ea typeface="Times New Roman"/>
              </a:rPr>
              <a:t>3. Модель выпускника выступает в качестве основного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итерия эффективности воспитательно-образовательного процесса,</a:t>
            </a:r>
            <a:r>
              <a:rPr b="1" lang="ru-RU" sz="2400" spc="-1" strike="noStrike">
                <a:solidFill>
                  <a:srgbClr val="863204"/>
                </a:solidFill>
                <a:latin typeface="Times New Roman"/>
                <a:ea typeface="Times New Roman"/>
              </a:rPr>
              <a:t> благодаря которому можно соотнести полученные результаты с мнением педагогов, медицинских работников ДОУ и родителей о желаемых результатах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4920" y="2437920"/>
            <a:ext cx="63486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63204"/>
                </a:solidFill>
                <a:latin typeface="Constantia"/>
              </a:rPr>
              <a:t>КАКОВ ЖЕ ДЛЯ НАС ВАШ РЕБЕНОК-ВЫПУСКНИК УЧРЕЖДЕНИЯ ДОШКОЛЬНОГО ОБРАЗОВАНИЯ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380880" y="189000"/>
            <a:ext cx="830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nstantia"/>
              </a:rPr>
              <a:t>Физически развит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 ребенка сформированы основные физические качества и потребность в двигательной активности, соблюдает элементарные прави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здорового образа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https://i.mycdn.me/i?r=AzEPZsRbOZEKgBhR0XGMT1RkM4VjRsES4ECDL4WJiMkbyqaKTM5SRkZCeTgDn6uOyic"/>
          <p:cNvPicPr/>
          <p:nvPr/>
        </p:nvPicPr>
        <p:blipFill>
          <a:blip r:embed="rId1"/>
          <a:stretch/>
        </p:blipFill>
        <p:spPr>
          <a:xfrm>
            <a:off x="990720" y="2892600"/>
            <a:ext cx="3276360" cy="3276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https://i.mycdn.me/i?r=AzEPZsRbOZEKgBhR0XGMT1RkC-id3qNR7re2xWHGA48XzqaKTM5SRkZCeTgDn6uOyic"/>
          <p:cNvPicPr/>
          <p:nvPr/>
        </p:nvPicPr>
        <p:blipFill>
          <a:blip r:embed="rId2"/>
          <a:stretch/>
        </p:blipFill>
        <p:spPr>
          <a:xfrm>
            <a:off x="5029200" y="291132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https://i.mycdn.me/i?r=AyH4iRPQ2q0otWIFepML2LxRArVajnKlV-ruI1sIDUcBWw"/>
          <p:cNvPicPr/>
          <p:nvPr/>
        </p:nvPicPr>
        <p:blipFill>
          <a:blip r:embed="rId1"/>
          <a:stretch/>
        </p:blipFill>
        <p:spPr>
          <a:xfrm>
            <a:off x="228600" y="304920"/>
            <a:ext cx="4165560" cy="3124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E:\фьюджи последний\диск д\сайт\банк фото\3кл\DSC_0292.jpg"/>
          <p:cNvPicPr/>
          <p:nvPr/>
        </p:nvPicPr>
        <p:blipFill>
          <a:blip r:embed="rId2"/>
          <a:stretch/>
        </p:blipFill>
        <p:spPr>
          <a:xfrm>
            <a:off x="2971800" y="2514600"/>
            <a:ext cx="591192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228600" y="303120"/>
            <a:ext cx="85345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знательный, активный, эмоционально отзывчивый, интересуется новым, неизвестным в окружающем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ет вопросы взрослому, любит экспериментиров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ен самостоятельно действов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повседневной жизни, в различных видах детской деятельност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ях затруднений обращается 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ю к взросло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имает живо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интересован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образователь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https://avatars.mds.yandex.net/get-pdb/1043578/acb75828-c17e-4a6c-958b-9f83c7bea589/s1200?webp=false"/>
          <p:cNvPicPr/>
          <p:nvPr/>
        </p:nvPicPr>
        <p:blipFill>
          <a:blip r:embed="rId1"/>
          <a:stretch/>
        </p:blipFill>
        <p:spPr>
          <a:xfrm>
            <a:off x="4952880" y="4199040"/>
            <a:ext cx="399600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Прямоугольник 1" descr=""/>
          <p:cNvPicPr/>
          <p:nvPr/>
        </p:nvPicPr>
        <p:blipFill>
          <a:blip r:embed="rId1"/>
          <a:stretch/>
        </p:blipFill>
        <p:spPr>
          <a:xfrm>
            <a:off x="291960" y="689040"/>
            <a:ext cx="84870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609480" y="312408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Школьное обучение никогда не начинается с пустого места, а всегда опирается на определенную стадию развития, проделанную ребёнком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 С. Выгод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1" descr="https://snova-prazdnik.ru/wp-content/uploads/2016/12/viktorina_dety_01-1440x564_c.jpg"/>
          <p:cNvPicPr/>
          <p:nvPr/>
        </p:nvPicPr>
        <p:blipFill>
          <a:blip r:embed="rId1"/>
          <a:stretch/>
        </p:blipFill>
        <p:spPr>
          <a:xfrm>
            <a:off x="1447920" y="457200"/>
            <a:ext cx="593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msung</dc:creator>
  <dc:description/>
  <dc:language>en-US</dc:language>
  <cp:lastModifiedBy>Пользователь</cp:lastModifiedBy>
  <dcterms:modified xsi:type="dcterms:W3CDTF">2019-10-07T18:16:32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